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D9ECE7-1907-4D83-A7BA-CB0444B8BA8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D3219A-A90B-4864-9B06-194728C694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A05FE2-0625-4F6F-903B-41B515A41A2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32F7D6-C3AF-47E1-BC05-758602E3D76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574C6F-FB66-434E-9C36-DA0038DC63D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6A7A10-CED5-4860-9A79-A2C24DD8CDE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F003F0-6B51-423D-851E-68DD487D1BC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95A2DC-4A35-4D4F-8266-F430B6D603F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72FB94-8615-42C1-955C-795C56EBD4D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077984-AA93-4BE4-84E5-2962708A7A9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A1F543-E74F-4617-9161-E16A287299A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922F1D-FD87-4C60-9F6D-7A11E547883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B87C57-13C7-4F7B-B163-E760E9CE824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AA6F28-F89E-4CB7-83F3-CD0136BE2DB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8915B2-8C99-479C-88EF-812E889AE5D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1F7-AA5B-4393-9F22-02DC1CFF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675-B0C3-4B43-8F96-C6BEACE6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0EF-6DF0-4D6F-AB05-1388EE45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C96-22FA-4EBA-9BF5-2B5341CC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B5B3-B098-445C-9DAF-71BB0902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422-61B6-4EBC-9EC9-60B9FB2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DB71-464C-4D52-9859-0F259CAE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D2B7-C280-4BD9-A51B-CE923C8C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2AE1-9BB7-413C-BDE8-388C51A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2297-B296-4858-B622-C2268AF8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57C5-AE06-45B8-AAC1-3B79D7B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08A-F5E5-471B-9DE6-AD74AA6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3F3-F289-4CC8-A6D4-CAB09C30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B97-03B1-4988-B4B5-E60CCA0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7CCE-C490-4B52-9348-A2B00392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846C-D1F1-41AE-A721-AA3A3EFC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5C92-1AD4-45D4-821B-EDE09BFA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CDD-B392-4D27-B206-D3195BEC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8FC-AD96-4C81-A02B-CD4367C1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C42-A445-4878-9A7B-66EB552A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14B-0740-4A5F-9368-5F96F736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7D3-1DD2-44AB-9C63-6F22362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F8D-38CF-40C4-B9ED-1159DA43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CCA-7AB2-458C-A92B-C391B71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134B-9E1C-4A66-A33F-C3625641C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FDA-8372-4D09-BB36-4455D236A9E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  <p:sp>
        <p:nvSpPr>
          <p:cNvPr id="174" name="Callout con freccia in giù 1"/>
          <p:cNvSpPr/>
          <p:nvPr/>
        </p:nvSpPr>
        <p:spPr>
          <a:xfrm>
            <a:off x="5580000" y="1989000"/>
            <a:ext cx="2952720" cy="1440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 could restrict to doc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n the inters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pproximate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ancy hits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conjuncti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5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0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201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02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4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7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6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7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22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0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6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7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52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5" name="Group 90" descr=""/>
          <p:cNvPicPr/>
          <p:nvPr/>
        </p:nvPicPr>
        <p:blipFill>
          <a:blip r:embed="rId1"/>
          <a:stretch/>
        </p:blipFill>
        <p:spPr>
          <a:xfrm>
            <a:off x="3882960" y="2206800"/>
            <a:ext cx="1841400" cy="1993680"/>
          </a:xfrm>
          <a:prstGeom prst="rect">
            <a:avLst/>
          </a:prstGeom>
          <a:ln w="0">
            <a:noFill/>
          </a:ln>
        </p:spPr>
      </p:pic>
      <p:pic>
        <p:nvPicPr>
          <p:cNvPr id="256" name="Group 91" descr=""/>
          <p:cNvPicPr/>
          <p:nvPr/>
        </p:nvPicPr>
        <p:blipFill>
          <a:blip r:embed="rId2"/>
          <a:stretch/>
        </p:blipFill>
        <p:spPr>
          <a:xfrm>
            <a:off x="4492800" y="2206800"/>
            <a:ext cx="1841400" cy="19936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nly accumulate ranking for the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62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,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6" name="AutoShape 5"/>
          <p:cNvCxnSpPr>
            <a:stCxn id="305" idx="1"/>
            <a:endCxn id="305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7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0" name="AutoShape 45"/>
          <p:cNvCxnSpPr>
            <a:stCxn id="309" idx="5"/>
            <a:endCxn id="289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46"/>
          <p:cNvCxnSpPr>
            <a:stCxn id="309" idx="6"/>
            <a:endCxn id="290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AutoShape 48"/>
          <p:cNvCxnSpPr>
            <a:stCxn id="309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AutoShape 50"/>
          <p:cNvCxnSpPr>
            <a:stCxn id="309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AutoShape 51"/>
          <p:cNvCxnSpPr>
            <a:stCxn id="309" idx="1"/>
            <a:endCxn id="283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AutoShape 52"/>
          <p:cNvCxnSpPr>
            <a:stCxn id="309" idx="1"/>
            <a:endCxn id="284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AutoShape 53"/>
          <p:cNvCxnSpPr>
            <a:stCxn id="302" idx="0"/>
            <a:endCxn id="309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17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4365720"/>
          <a:ext cx="4572000" cy="1482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1-09T09:59:51Z</dcterms:modified>
  <cp:revision>1189</cp:revision>
  <dc:subject/>
  <dc:title>Web Algorithmics</dc:title>
</cp:coreProperties>
</file>